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EA73-CE0E-419E-8F5B-F1EF27F8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8B2-CB59-4F2F-AC29-7B1908AD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C18C-4195-4224-8ABD-A788AF04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609F-F191-41CD-BF36-654D0774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A09B-D998-4F9A-8BB5-62C8C0CB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BE49-1001-4D69-B896-D681E5EB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0C60-1605-4587-A218-E43D20D4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9018-9280-4331-8D52-950756F3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9EEE-0949-42AE-B823-DC192001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6D0D-0B0E-4067-8F04-8ABAD2D7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883A-122E-412C-AC6D-7703773D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13D6-AB3E-463E-8574-231AD789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339C-F351-485D-BF5A-D498291B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12D4-5EE3-421B-9078-A37B5184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5F19-155F-4C92-B7DA-338CF04B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7B35-BB95-4528-A134-B1779454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D8B1-9394-46F4-9B38-0E3D198E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B33-0E81-4E08-87B3-F2918415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192-A316-4790-A0BE-9FC54CF1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90F4-D0A7-4596-994C-5F4F2BD8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1DB8-8910-4990-A542-6C4173F0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CF33-74B6-4117-9557-3AC5DA8B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0D0-AD31-4997-8E3A-5729AFD0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29A3-649E-4DED-B5BC-AECBAC41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7AAC-46AC-48CA-BA2F-71074968F8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FD30-9C7B-492B-8F50-AC13F5EE0E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St Mary’s Primary School,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Hay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32000" y="573372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TLL Mid – Point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183280" cy="347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ree questions we still have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to next with future planning and wik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uch time do we have to complete our action pl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we know we have succeeded in implementing our pl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did we set out to do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te an action plan targeting our “amber lights” from our first LTLL meet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on our actio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sit our action plan regularly to see if any other issues arise that need dealing wi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OME CONFIDENT IN USING TECHNOLOGY WITHIN OUR SCHOOL FOR THE DEVELOPMENT OF STAFF AND STUDE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468360" y="1381680"/>
            <a:ext cx="8197560" cy="3340080"/>
            <a:chOff x="468360" y="1381680"/>
            <a:chExt cx="8197560" cy="3340080"/>
          </a:xfrm>
        </p:grpSpPr>
        <p:cxnSp>
          <p:nvCxnSpPr>
            <p:cNvPr id="217" name="_s90124"/>
            <p:cNvCxnSpPr>
              <a:stCxn id="218" idx="0"/>
              <a:endCxn id="219" idx="2"/>
            </p:cNvCxnSpPr>
            <p:nvPr/>
          </p:nvCxnSpPr>
          <p:spPr>
            <a:xfrm flipV="1" rot="16200000">
              <a:off x="5879520" y="1504800"/>
              <a:ext cx="162720" cy="2788200"/>
            </a:xfrm>
            <a:prstGeom prst="bentConnector3">
              <a:avLst>
                <a:gd name="adj1" fmla="val 494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0" name="_s90123"/>
            <p:cNvCxnSpPr>
              <a:stCxn id="221" idx="0"/>
              <a:endCxn id="219" idx="2"/>
            </p:cNvCxnSpPr>
            <p:nvPr/>
          </p:nvCxnSpPr>
          <p:spPr>
            <a:xfrm flipV="1">
              <a:off x="4566960" y="2817720"/>
              <a:ext cx="1800" cy="162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22" name="_s90122"/>
            <p:cNvCxnSpPr>
              <a:stCxn id="223" idx="0"/>
              <a:endCxn id="219" idx="2"/>
            </p:cNvCxnSpPr>
            <p:nvPr/>
          </p:nvCxnSpPr>
          <p:spPr>
            <a:xfrm flipH="1" flipV="1" rot="5400000">
              <a:off x="3092040" y="1505160"/>
              <a:ext cx="162720" cy="2787840"/>
            </a:xfrm>
            <a:prstGeom prst="bentConnector3">
              <a:avLst>
                <a:gd name="adj1" fmla="val 4944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19" name="_s90118"/>
            <p:cNvSpPr/>
            <p:nvPr/>
          </p:nvSpPr>
          <p:spPr>
            <a:xfrm>
              <a:off x="3555360" y="1381680"/>
              <a:ext cx="2023920" cy="1435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omic Sans MS"/>
                </a:rPr>
                <a:t>St Mary’s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omic Sans MS"/>
                </a:rPr>
                <a:t>LTLL focus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_s90119"/>
            <p:cNvSpPr/>
            <p:nvPr/>
          </p:nvSpPr>
          <p:spPr>
            <a:xfrm>
              <a:off x="468360" y="2981880"/>
              <a:ext cx="2622960" cy="1739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Focus 5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Educative Leadership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Leadership for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professional learnin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_s90120"/>
            <p:cNvSpPr/>
            <p:nvPr/>
          </p:nvSpPr>
          <p:spPr>
            <a:xfrm>
              <a:off x="3255840" y="2981880"/>
              <a:ext cx="2622600" cy="1739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Focus 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uthentic Learn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rganising fo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earn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_s90121"/>
            <p:cNvSpPr/>
            <p:nvPr/>
          </p:nvSpPr>
          <p:spPr>
            <a:xfrm>
              <a:off x="6043320" y="2981880"/>
              <a:ext cx="2622600" cy="1739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Focus 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uthentic Learn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tandards for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earn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971640" y="3141720"/>
            <a:ext cx="1439640" cy="1150920"/>
          </a:xfrm>
          <a:custGeom>
            <a:avLst/>
            <a:gdLst>
              <a:gd name="textAreaLeft" fmla="*/ 74520 w 1439640"/>
              <a:gd name="textAreaRight" fmla="*/ 1365120 w 1439640"/>
              <a:gd name="textAreaTop" fmla="*/ 74520 h 1150920"/>
              <a:gd name="textAreaBottom" fmla="*/ 1076400 h 1150920"/>
            </a:gdLst>
            <a:ahLst/>
            <a:rect l="textAreaLeft" t="textAreaTop" r="textAreaRight" b="textAreaBottom"/>
            <a:pathLst>
              <a:path w="27017" h="21600">
                <a:moveTo>
                  <a:pt x="0" y="0"/>
                </a:moveTo>
                <a:lnTo>
                  <a:pt x="27017" y="0"/>
                </a:lnTo>
                <a:lnTo>
                  <a:pt x="27017" y="21600"/>
                </a:lnTo>
                <a:lnTo>
                  <a:pt x="0" y="21600"/>
                </a:lnTo>
                <a:close/>
              </a:path>
              <a:path fill="lightenLess" w="27017" h="21600">
                <a:moveTo>
                  <a:pt x="0" y="0"/>
                </a:moveTo>
                <a:lnTo>
                  <a:pt x="27017" y="0"/>
                </a:lnTo>
                <a:lnTo>
                  <a:pt x="25617" y="1400"/>
                </a:lnTo>
                <a:lnTo>
                  <a:pt x="1400" y="1400"/>
                </a:lnTo>
                <a:close/>
              </a:path>
              <a:path fill="darken" w="27017" h="21600">
                <a:moveTo>
                  <a:pt x="27017" y="0"/>
                </a:moveTo>
                <a:lnTo>
                  <a:pt x="27017" y="21600"/>
                </a:lnTo>
                <a:lnTo>
                  <a:pt x="25617" y="20200"/>
                </a:lnTo>
                <a:lnTo>
                  <a:pt x="25617" y="1400"/>
                </a:lnTo>
                <a:close/>
              </a:path>
              <a:path fill="darkenLess" w="27017" h="21600">
                <a:moveTo>
                  <a:pt x="270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7" y="20200"/>
                </a:lnTo>
                <a:close/>
              </a:path>
              <a:path fill="lighten" w="270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3924360" y="3357720"/>
            <a:ext cx="1368360" cy="1008000"/>
          </a:xfrm>
          <a:custGeom>
            <a:avLst/>
            <a:gdLst>
              <a:gd name="textAreaLeft" fmla="*/ 65160 w 1368360"/>
              <a:gd name="textAreaRight" fmla="*/ 1303200 w 1368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9319" h="21600">
                <a:moveTo>
                  <a:pt x="0" y="0"/>
                </a:moveTo>
                <a:lnTo>
                  <a:pt x="29319" y="0"/>
                </a:lnTo>
                <a:lnTo>
                  <a:pt x="29319" y="21600"/>
                </a:lnTo>
                <a:lnTo>
                  <a:pt x="0" y="21600"/>
                </a:lnTo>
                <a:close/>
              </a:path>
              <a:path fill="lightenLess" w="29319" h="21600">
                <a:moveTo>
                  <a:pt x="0" y="0"/>
                </a:moveTo>
                <a:lnTo>
                  <a:pt x="29319" y="0"/>
                </a:lnTo>
                <a:lnTo>
                  <a:pt x="27919" y="1400"/>
                </a:lnTo>
                <a:lnTo>
                  <a:pt x="1400" y="1400"/>
                </a:lnTo>
                <a:close/>
              </a:path>
              <a:path fill="darken" w="29319" h="21600">
                <a:moveTo>
                  <a:pt x="29319" y="0"/>
                </a:moveTo>
                <a:lnTo>
                  <a:pt x="29319" y="21600"/>
                </a:lnTo>
                <a:lnTo>
                  <a:pt x="27919" y="20200"/>
                </a:lnTo>
                <a:lnTo>
                  <a:pt x="27919" y="1400"/>
                </a:lnTo>
                <a:close/>
              </a:path>
              <a:path fill="darkenLess" w="29319" h="21600">
                <a:moveTo>
                  <a:pt x="29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9" y="20200"/>
                </a:lnTo>
                <a:close/>
              </a:path>
              <a:path fill="lighten" w="29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6732720" y="3500280"/>
            <a:ext cx="1295280" cy="865440"/>
          </a:xfrm>
          <a:custGeom>
            <a:avLst/>
            <a:gdLst>
              <a:gd name="textAreaLeft" fmla="*/ 55800 w 1295280"/>
              <a:gd name="textAreaRight" fmla="*/ 1239480 w 129528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8388360" y="602136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8101080" y="18900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12973" y="3837"/>
                </a:moveTo>
                <a:lnTo>
                  <a:pt x="15549" y="6448"/>
                </a:lnTo>
                <a:lnTo>
                  <a:pt x="15549" y="4707"/>
                </a:lnTo>
                <a:lnTo>
                  <a:pt x="17325" y="4707"/>
                </a:lnTo>
                <a:lnTo>
                  <a:pt x="17325" y="8224"/>
                </a:lnTo>
                <a:lnTo>
                  <a:pt x="19936" y="10800"/>
                </a:lnTo>
                <a:lnTo>
                  <a:pt x="18282" y="10800"/>
                </a:lnTo>
                <a:lnTo>
                  <a:pt x="18282" y="17989"/>
                </a:lnTo>
                <a:lnTo>
                  <a:pt x="7664" y="17989"/>
                </a:lnTo>
                <a:lnTo>
                  <a:pt x="7664" y="10800"/>
                </a:lnTo>
                <a:lnTo>
                  <a:pt x="6010" y="10800"/>
                </a:lnTo>
                <a:close/>
              </a:path>
              <a:path fill="darkenLess" w="25946" h="21600">
                <a:moveTo>
                  <a:pt x="15549" y="6448"/>
                </a:moveTo>
                <a:lnTo>
                  <a:pt x="15549" y="4707"/>
                </a:lnTo>
                <a:lnTo>
                  <a:pt x="17325" y="4707"/>
                </a:lnTo>
                <a:lnTo>
                  <a:pt x="17325" y="8224"/>
                </a:lnTo>
                <a:close/>
              </a:path>
              <a:path fill="darkenLess" w="25946" h="21600">
                <a:moveTo>
                  <a:pt x="12050" y="14299"/>
                </a:moveTo>
                <a:lnTo>
                  <a:pt x="13896" y="14299"/>
                </a:lnTo>
                <a:lnTo>
                  <a:pt x="13896" y="17989"/>
                </a:lnTo>
                <a:lnTo>
                  <a:pt x="18282" y="17989"/>
                </a:lnTo>
                <a:lnTo>
                  <a:pt x="18282" y="10800"/>
                </a:lnTo>
                <a:lnTo>
                  <a:pt x="7664" y="10800"/>
                </a:lnTo>
                <a:lnTo>
                  <a:pt x="7664" y="17989"/>
                </a:lnTo>
                <a:lnTo>
                  <a:pt x="12050" y="17989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79280" y="1557360"/>
          <a:ext cx="8713800" cy="6365880"/>
        </p:xfrm>
        <a:graphic>
          <a:graphicData uri="http://schemas.openxmlformats.org/drawingml/2006/table">
            <a:tbl>
              <a:tblPr/>
              <a:tblGrid>
                <a:gridCol w="4357800"/>
                <a:gridCol w="4356000"/>
              </a:tblGrid>
              <a:tr h="636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ed to move with technology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ll need to be skilled with the same information to be successful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ed to utilize the technology we have in the school and use it to its full potential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 each other to help develop our skills and resourc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“team-based” learning as a staff and as a small school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have we don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viewed structures already in place to see if they are effectiv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essional Development in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cootle - Atomic Learning - Promethean -  World Book Onli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allation of Interactive whiteboards in all classroom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ease given to class teachers to use the school resources for planning and learning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lder has been created on the school server for sharing of resources and lesson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teachers are members of the LTLL Wiki to broaden their scope of learning through interacting with other schools, sharing ideas and asking advic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cus 5: Educative Leadership</a:t>
            </a:r>
            <a:br>
              <a:rPr sz="2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adership for professional learning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upports team-based learning through school structures and procedures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8172360" y="18900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900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cus 6  Authentic Learner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ing for learn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Uses technology to support teaching and learning.                                                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50920" y="1125360"/>
          <a:ext cx="8713800" cy="58975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58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diting of resources is neede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ll staff are skilled enough to fully utilise technology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ed to make better use of the  technology in our school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have PD opportunities to build on this are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have we don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scriptions to Mathletics and World Book Onlin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dited IT resources in the school by all staff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release given to all teacher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staff are members of 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LTLL  Wiki - Promethean Plan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cootle -Atomic Learning -SMARTAustral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dren are using Microsoft Power point, Word and Photo story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achers are designing interesting &amp; engaging lessons using the Interactive Whiteboards and are sharing them via the IT folder set up on the school server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ch staff has a hard copy of power points used for PD &amp; a computer trouble shooting guide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ff have been inserviced on Activotes they are being trialed in the Primary clas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99ff99"/>
                        </a:buClr>
                        <a:buSzPct val="8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8028000" y="333360"/>
            <a:ext cx="865080" cy="792000"/>
          </a:xfrm>
          <a:custGeom>
            <a:avLst/>
            <a:gdLst>
              <a:gd name="textAreaLeft" fmla="*/ 51120 w 865080"/>
              <a:gd name="textAreaRight" fmla="*/ 813960 w 865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92" h="21600">
                <a:moveTo>
                  <a:pt x="0" y="0"/>
                </a:moveTo>
                <a:lnTo>
                  <a:pt x="23592" y="0"/>
                </a:lnTo>
                <a:lnTo>
                  <a:pt x="23592" y="21600"/>
                </a:lnTo>
                <a:lnTo>
                  <a:pt x="0" y="21600"/>
                </a:lnTo>
                <a:close/>
              </a:path>
              <a:path fill="lightenLess" w="23592" h="21600">
                <a:moveTo>
                  <a:pt x="0" y="0"/>
                </a:moveTo>
                <a:lnTo>
                  <a:pt x="23592" y="0"/>
                </a:lnTo>
                <a:lnTo>
                  <a:pt x="22192" y="1400"/>
                </a:lnTo>
                <a:lnTo>
                  <a:pt x="1400" y="1400"/>
                </a:lnTo>
                <a:close/>
              </a:path>
              <a:path fill="darken" w="23592" h="21600">
                <a:moveTo>
                  <a:pt x="23592" y="0"/>
                </a:moveTo>
                <a:lnTo>
                  <a:pt x="23592" y="21600"/>
                </a:lnTo>
                <a:lnTo>
                  <a:pt x="22192" y="20200"/>
                </a:lnTo>
                <a:lnTo>
                  <a:pt x="22192" y="1400"/>
                </a:lnTo>
                <a:close/>
              </a:path>
              <a:path fill="darkenLess" w="23592" h="21600">
                <a:moveTo>
                  <a:pt x="23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92" y="20200"/>
                </a:lnTo>
                <a:close/>
              </a:path>
              <a:path fill="lighten" w="23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92" h="21600">
                <a:moveTo>
                  <a:pt x="11796" y="3837"/>
                </a:moveTo>
                <a:lnTo>
                  <a:pt x="14372" y="6448"/>
                </a:lnTo>
                <a:lnTo>
                  <a:pt x="14372" y="4707"/>
                </a:lnTo>
                <a:lnTo>
                  <a:pt x="16148" y="4707"/>
                </a:lnTo>
                <a:lnTo>
                  <a:pt x="16148" y="8224"/>
                </a:lnTo>
                <a:lnTo>
                  <a:pt x="18759" y="10800"/>
                </a:lnTo>
                <a:lnTo>
                  <a:pt x="17105" y="10800"/>
                </a:lnTo>
                <a:lnTo>
                  <a:pt x="17105" y="17989"/>
                </a:lnTo>
                <a:lnTo>
                  <a:pt x="6487" y="17989"/>
                </a:lnTo>
                <a:lnTo>
                  <a:pt x="6487" y="10800"/>
                </a:lnTo>
                <a:lnTo>
                  <a:pt x="4833" y="10800"/>
                </a:lnTo>
                <a:close/>
              </a:path>
              <a:path fill="darkenLess" w="23592" h="21600">
                <a:moveTo>
                  <a:pt x="14372" y="6448"/>
                </a:moveTo>
                <a:lnTo>
                  <a:pt x="14372" y="4707"/>
                </a:lnTo>
                <a:lnTo>
                  <a:pt x="16148" y="4707"/>
                </a:lnTo>
                <a:lnTo>
                  <a:pt x="16148" y="8224"/>
                </a:lnTo>
                <a:close/>
              </a:path>
              <a:path fill="darkenLess" w="23592" h="21600">
                <a:moveTo>
                  <a:pt x="10874" y="14299"/>
                </a:moveTo>
                <a:lnTo>
                  <a:pt x="12719" y="14299"/>
                </a:lnTo>
                <a:lnTo>
                  <a:pt x="12719" y="17989"/>
                </a:lnTo>
                <a:lnTo>
                  <a:pt x="17105" y="17989"/>
                </a:lnTo>
                <a:lnTo>
                  <a:pt x="17105" y="10800"/>
                </a:lnTo>
                <a:lnTo>
                  <a:pt x="6487" y="10800"/>
                </a:lnTo>
                <a:lnTo>
                  <a:pt x="6487" y="17989"/>
                </a:lnTo>
                <a:lnTo>
                  <a:pt x="10874" y="17989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9000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cus 6  Authentic Learner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s for learn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hallenges students in all areas of their development.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50920" y="1341360"/>
          <a:ext cx="8713800" cy="459900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46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cus on the higher achievers of the school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ise technology bette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 how IT is being used to cater for high achievers and all others students across the KLAs by looking at class program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view of the IT scope &amp; sequence so it caters for all students, especially scope for the high achievers, and make sure it incorporates the use of the Interactive Whiteboard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have we done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achers have focused on designing interesting and engaging lessons using their Interactive Whiteboard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ff have been inserviced on using Activotes and they are being trialed in the Primary class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99ff99"/>
                        </a:buClr>
                        <a:buSzPct val="8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essional Development in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cootle - Atomic Learning - Promethean -  World Book Onli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755640" y="61657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ill a work in progress with this focus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successful have we bee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are continuing to implement our action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have a positive attitude towards using technology and keen to share successes, resources, ideas and less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feel more confident to use technology after the professional development we have d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begun to make a great bank of resources for the whole staff to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essional Development opportunities have supported the staff to further develop their skills and less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ing with Hillston in LTLL discussions to share ide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a common vi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ree Challe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suring the computers in the school are up to speed for the new technolo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 out the best way to use technology to cater for our high achiev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suring all classes have the same opportunity to engage in the technology the school h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ree things we have learnt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y has so much to offer our students, our teaching program and our classr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more collaboration and more talk between staff about what we are doing in our classro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hildren are engaged in lessons when using the Interactive Whiteboa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03:04:53Z</dcterms:created>
  <dc:creator> </dc:creator>
  <dc:description/>
  <dc:language>en-US</dc:language>
  <cp:lastModifiedBy>melissah</cp:lastModifiedBy>
  <dcterms:modified xsi:type="dcterms:W3CDTF">2010-08-25T23:08:42Z</dcterms:modified>
  <cp:revision>18</cp:revision>
  <dc:subject/>
  <dc:title>St Mary’s Primary School, Hay.</dc:title>
</cp:coreProperties>
</file>